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3C96-AF6B-4227-920A-DDFFC9750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n idea – we can choose any design or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D253-056B-479C-B279-A4261D193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AB5A-4E7C-474C-82DF-82129AA6C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1752-4758-4D8A-BC6C-2D8C70B31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don’t know if we want to use this, but I thought it looked cool and it has a lot of goo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47E4-4D26-4675-91BC-B291B849A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45F-257C-4A58-979D-41A6EA86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59E-D1BF-470C-A595-534A843F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8B4-F19A-4361-88EE-68A74660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48A-4797-4590-A669-2E6C3EFC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4126-F688-4BF0-A542-CAE065D0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19D1-FD7D-4C30-908B-F0C7D200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ED22-2053-4756-8472-B917E7B6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BF39-CC7C-4701-90F6-483FB678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9380-C548-4FA5-BFC8-A84D954A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D742-2A4A-435C-8CEC-AE046925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169D-003C-493E-A0D3-053AFF06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118-CF70-4954-9CA9-078326E6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7E0B-BD36-477B-B1D1-2B09C85F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1216-BCAA-4F9D-AD4B-3D1BF926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C51D-E9ED-47E5-9B05-72332737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4190-C07B-4245-96AE-88BA6807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AF9D-B87F-4E40-8C9D-74DFEB96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5E16C-AC84-45F4-9245-27189388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33255-9F27-45A2-ACEF-12DA777F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AC3A6-D76D-4465-A088-EB5744F7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07309-0B88-40CA-AEDA-F16280D5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7FFB6-BE1F-462D-8B89-FCCDF4CB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597-64E7-4FA0-9844-A4E5345A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A8B57-AC6B-4A97-8E0C-AFA273C2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A082B-1271-476E-AE58-BD7BA5A5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338F5-6C70-4A47-B2A1-71AAB96E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F6DB7-1195-46C2-9931-09B4A200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D0F05-E7A2-4262-B897-AFCFB7F6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02C31-2F04-4BC0-A6CC-BFFEC235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6F0B2-A0D1-4622-A0C9-C0FAA24B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84CF7-A88C-4142-8466-4D45E9EC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03107-10E6-4392-BEAB-EC4BA103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B535E-FEF4-4D00-86BB-1976DBEE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BF5-04CB-4522-8BA2-72A9C00F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2D266-1992-4A23-A009-8A9F7245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1FC58-2F7F-46EA-8836-23DCB12C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B8EF6-1282-4587-8ACA-CD769967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5FFD7-C86F-4AC2-9225-216FE9A4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80C9F-FA32-4282-A811-D5B6561B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847C8-6C76-4BEE-B8C6-02995590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BF1DA-13D1-4567-880B-9E5B6734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BC655-076D-4B49-AC06-002183C4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06A41-A2C5-4405-84C7-428DF958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782C7-E9FB-4405-8152-94502698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40C-F6BF-4D6B-902B-699CECAE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BC88D-8DE0-4194-8902-5E01C4D0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43F41-87A1-4D0C-ABA5-D5F23450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4B22F-3EF6-4673-9C2A-CC1DBF48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F2CB0-739E-4279-8970-3E054B9D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C80C26-CB00-4215-8437-77D3CF72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2F2E0-9D40-4070-8E38-34F9D0BE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55EA2-11AD-44DA-ACA8-4335A8CF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0A88D-A87C-4E58-97BB-773A4E3E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C2ED1-5DD6-4D00-80BC-0B2C9291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B99FC-14F9-432F-A10B-B652E8B5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B36-DBA4-4EAB-B0F5-C027C72E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C75B2-1AE2-474C-8D71-C08C4704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3AD11-BEB7-4137-91EE-AA64DC05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EE373-315A-4EAC-A530-9EFA6C18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85159-8538-4731-9324-399ACEE5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BE9F3-64B1-43D9-868D-BE8ECE4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FCB9-01BD-4B02-BF1C-C0E9FCBF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D4821-34F1-4EBD-9671-984D97AA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7A5A3-5922-46B2-9957-BB997B12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EAB34-1D4E-414A-B84B-6CEB6D9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BC732-812F-4851-B7A4-4BBC86DF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03A-159E-4BE4-9A2A-96D125E4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6584D-2911-424E-AC23-728335BD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994A1-1A33-4A01-BCB0-F879A833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D1AFA-F532-4B50-8D13-188E9C1A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772F48-C7FF-4703-9057-2E1928E7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5034CF-4F55-4B11-B8A9-93BB6254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56447-EDF0-4CA0-9FEF-6C50EC1B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9BE50-7004-4E6B-BA84-54C7FD9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7948E4-F095-4BA7-99B2-7661B258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694FBC-834B-43D9-8F1F-B1AF58AE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9E319-140E-4E63-832B-8C377024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D4E-63A4-453C-8C8B-D9E8EBFD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22A7A-C39F-4031-8CB6-F0CD4C2C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C897C-37F1-443D-930E-F203264A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34286-5128-4BA3-B6F8-EA37AC54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6947B3-4238-4BFC-BEAF-173D9520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EF2DF-E43C-4150-BEB8-DC90BE37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01BEF-1957-4E36-A607-8F6B253E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8C54A-57BB-4884-8788-C9CC1E00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2B8C-E8D3-4FBE-8CF1-25A155D0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9484A-AF87-48CA-AF54-409962C1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D2819-510E-44F3-9ADF-8B6904D2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303-7486-403D-ACA0-67AD0E6C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777CA-5250-4DC2-ACBB-2BBA54EE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6F04A-E93C-4552-8156-317BF76F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D6BAC-6F80-474D-9004-9824AD0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E4135-FEC9-4969-A855-128A4A72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97C3E-AB67-400B-BC9F-A578BCA4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9F59F-4C6A-4E5F-9E70-F614D465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1351-13C3-442A-9AE7-4453A7BB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1C23-BAC7-4E32-A276-F7DAA50C5E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1476-01E5-41E3-BA8E-6F8CD7BBA11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F9D5-2745-4EDE-8E13-12762179586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1161-EE9F-4EA1-B16D-C6A6A80E62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2533-9FBB-4315-A526-2278F46AE8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47D6-5BD2-49EF-BDAD-31121E20B4B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00CB-7702-48B7-8441-8CBAA521B43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3A71-F318-4A64-9127-40095E3E2B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IRSI DYNIX SYMPHON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library automation system we ne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reports generated would be highly effective decision making too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the ability to customize the reports to fit our need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gram comes with more than 600 standard reports and utilit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 Capabi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io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termine if the library holdings support the curriculum of the scho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iodically determine the age of the col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rials collection evalu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quisitions budg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at any point in time the state of the budge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usage of the collection, including overall numbers and statistics for particular subject ar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44360" y="152280"/>
            <a:ext cx="8825040" cy="6529680"/>
          </a:xfrm>
          <a:prstGeom prst="rect">
            <a:avLst/>
          </a:prstGeom>
          <a:ln w="0">
            <a:noFill/>
          </a:ln>
        </p:spPr>
      </p:pic>
      <p:sp>
        <p:nvSpPr>
          <p:cNvPr id="364" name="TextBox 9"/>
          <p:cNvSpPr/>
          <p:nvPr/>
        </p:nvSpPr>
        <p:spPr>
          <a:xfrm>
            <a:off x="1143000" y="648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irsidynix.com/Solutions/Products/integratedsystems.ph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46:36Z</dcterms:created>
  <dc:creator>lisa brennan</dc:creator>
  <dc:description/>
  <dc:language>en-US</dc:language>
  <cp:lastModifiedBy>lisa brennan</cp:lastModifiedBy>
  <dcterms:modified xsi:type="dcterms:W3CDTF">2009-07-07T20:23:05Z</dcterms:modified>
  <cp:revision>8</cp:revision>
  <dc:subject/>
  <dc:title>Slide 1</dc:title>
</cp:coreProperties>
</file>